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AE0B-8EDF-46D4-B1E9-E70130C38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750E-BDC7-42F2-B409-5C1C44906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021B-E3F2-4AFC-8C3C-13A96983C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DBE9-2BA6-4946-A41E-38031ABFF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2D81-B77B-4A11-86C0-90E1B8599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36EE-1D02-4083-B614-7464F5AD4D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3830-619A-48F3-B4B8-0A6F5ED04E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59E2-596B-43A8-9B54-2F08B8B34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0C82-AA8E-404D-A287-136AC5F250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F117-CC22-49EB-AC9E-7218B9B68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9116-1103-4639-941E-50B0BE004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FA90-2E2E-4AED-8E01-CA99BF1E1A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2579-3DD6-479E-9594-013EE2E655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1A05-B5E7-4B32-B7B7-856E4888B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4115-2BBB-4A68-AC75-5D504EAC1E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EC24-C6E2-402D-B463-7B9B6DE4C6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5C35-CF1C-4B3A-9224-F012542D76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763D-5B43-4960-8512-D1BFB3FBF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78BC-CFA0-453A-9F1D-8508E1594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FF69-F2D9-4E39-9AA3-42598DFAF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2640-5446-4B37-8F32-C85EF766D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5449-E091-4B13-8961-930C87D93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E1E8-27AC-4F59-B810-86037FFEC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B3D6-7827-40F6-AF91-3E70E878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45520" y="6151320"/>
            <a:ext cx="341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D0494-E83C-4B0E-9711-96C43DAEE1A0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8372160" y="6151320"/>
            <a:ext cx="314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243A5-6878-429F-B393-F95AD380A2B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Defining Regions Using Inequalities</a:t>
            </a: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Hunting the Targe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36B55-3268-43A8-A037-7BF544521331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70560" y="2077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by6Grid.eps"/>
          <p:cNvPicPr/>
          <p:nvPr/>
        </p:nvPicPr>
        <p:blipFill>
          <a:blip r:embed="rId1"/>
          <a:stretch/>
        </p:blipFill>
        <p:spPr>
          <a:xfrm>
            <a:off x="1909800" y="1092240"/>
            <a:ext cx="55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Give Us a Clu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D9F19-6C85-44A0-A708-BF7EEA4C8AB6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8by8Grid.eps"/>
          <p:cNvPicPr/>
          <p:nvPr/>
        </p:nvPicPr>
        <p:blipFill>
          <a:blip r:embed="rId1"/>
          <a:stretch/>
        </p:blipFill>
        <p:spPr>
          <a:xfrm>
            <a:off x="1911240" y="934920"/>
            <a:ext cx="51958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Playing the Gam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F6DB7-F4D6-48FC-B68A-9079B63AF5E9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112760"/>
            <a:ext cx="83962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of you will be the target picker and the other the target hu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arget picker decides on the position of the target and give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giving clues, the target picker can use any inequality sign (≤, &lt;, ≥, &gt;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not the “=” sign. Try to give helpful clues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you give the clu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them as a list on your mini-white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arget hunter uses the clues to find the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im of the game for both partners, is to find the target in the least number of 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partners must use a blank grid to keep track of the clues that are gi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time a clue is given, shade out the region where the target cannot b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0:02:22Z</dcterms:created>
  <dc:creator>Nichola Clarke</dc:creator>
  <dc:description/>
  <cp:keywords/>
  <dc:language>en-US</dc:language>
  <cp:lastModifiedBy>Pead Daniel</cp:lastModifiedBy>
  <cp:lastPrinted>2010-10-21T12:22:38Z</cp:lastPrinted>
  <dcterms:modified xsi:type="dcterms:W3CDTF">2011-02-02T17:06:36Z</dcterms:modified>
  <cp:revision>18</cp:revision>
  <dc:subject/>
  <dc:title>Slide 0</dc:title>
</cp:coreProperties>
</file>